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A65-D884-42B3-BA88-80A9E48F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061-5B79-41E8-AC93-14F4C3B3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460-FDE7-41B6-925C-673D95BA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198-537A-4DDF-8625-6087AAF2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EEB-E7D7-41CD-B34A-7B02EF42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EAF-B418-402F-A83C-FCE7B59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66A-E20F-4AC6-9897-1BDC3E34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A13-6D60-4F93-BC79-BCE8AC2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40E-473D-410F-BC85-C62F89F7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C55-09D9-438F-A974-DE298902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0BD-4426-44AF-9114-FFF9630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D10-AC51-4668-829E-DA5FE5DF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96FA-D68D-4C33-B1AB-1B66B8D69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2160" y="3705120"/>
            <a:ext cx="844560" cy="658800"/>
          </a:xfrm>
          <a:custGeom>
            <a:avLst/>
            <a:gdLst/>
            <a:ahLst/>
            <a:rect l="l" t="t" r="r" b="b"/>
            <a:pathLst>
              <a:path w="532" h="415">
                <a:moveTo>
                  <a:pt x="0" y="0"/>
                </a:moveTo>
                <a:lnTo>
                  <a:pt x="0" y="415"/>
                </a:lnTo>
                <a:lnTo>
                  <a:pt x="532" y="41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293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1400" y="2108160"/>
            <a:ext cx="1440" cy="300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37080" y="4832280"/>
            <a:ext cx="384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625640" y="2108160"/>
            <a:ext cx="954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21400" y="2108160"/>
            <a:ext cx="936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95760" y="4738680"/>
            <a:ext cx="1890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195760" y="4832280"/>
            <a:ext cx="189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721400" y="2203560"/>
            <a:ext cx="563400" cy="26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1400" y="2766960"/>
            <a:ext cx="2652480" cy="206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344840" y="3048120"/>
            <a:ext cx="75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344480" y="3705120"/>
            <a:ext cx="1597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5960" y="3728880"/>
            <a:ext cx="2459160" cy="822600"/>
          </a:xfrm>
          <a:custGeom>
            <a:avLst/>
            <a:gdLst/>
            <a:ahLst/>
            <a:rect l="l" t="t" r="r" b="b"/>
            <a:pathLst>
              <a:path w="1549" h="518">
                <a:moveTo>
                  <a:pt x="0" y="0"/>
                </a:moveTo>
                <a:lnTo>
                  <a:pt x="287" y="133"/>
                </a:lnTo>
                <a:lnTo>
                  <a:pt x="602" y="281"/>
                </a:lnTo>
                <a:lnTo>
                  <a:pt x="1253" y="459"/>
                </a:lnTo>
                <a:lnTo>
                  <a:pt x="1549" y="518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9400" y="1827360"/>
            <a:ext cx="736560" cy="1901520"/>
          </a:xfrm>
          <a:custGeom>
            <a:avLst/>
            <a:gdLst/>
            <a:ahLst/>
            <a:rect l="l" t="t" r="r" b="b"/>
            <a:pathLst>
              <a:path w="464" h="1198">
                <a:moveTo>
                  <a:pt x="464" y="1198"/>
                </a:moveTo>
                <a:lnTo>
                  <a:pt x="293" y="976"/>
                </a:lnTo>
                <a:lnTo>
                  <a:pt x="178" y="828"/>
                </a:lnTo>
                <a:lnTo>
                  <a:pt x="60" y="29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95800" y="3048120"/>
            <a:ext cx="1800" cy="22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2160" y="3705120"/>
            <a:ext cx="1440" cy="159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6560" y="494676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1520" y="509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26520" y="4946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07520" y="509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6840" y="2409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50720" y="25574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6240" y="1752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67240" y="190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4840" y="295416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51240" y="2953800"/>
            <a:ext cx="187560" cy="18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02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002200" y="5114880"/>
            <a:ext cx="1872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93280" y="3416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16080" y="35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7440" y="3684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560" y="53229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64560" y="5470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93680" y="44766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73240" y="4624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5320" y="2316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1958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96120" y="43434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86080" y="340344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828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620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03640" y="3255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07880" y="2463840"/>
            <a:ext cx="19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94280" y="3659040"/>
            <a:ext cx="93600" cy="939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9720" y="3002040"/>
            <a:ext cx="9396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48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692760" y="5114880"/>
            <a:ext cx="1890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5284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076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786720" y="4363920"/>
            <a:ext cx="1440" cy="84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4840" y="361152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251240" y="4268520"/>
            <a:ext cx="18756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6080" y="406080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03640" y="3913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4840" y="4363920"/>
            <a:ext cx="2441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40640" y="431640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22960" y="3424320"/>
            <a:ext cx="563760" cy="75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6720" y="3424320"/>
            <a:ext cx="282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23880" y="30672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03440" y="32162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373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378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4880" y="21286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  = n  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" y="2089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1280" y="227664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             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590920"/>
          <a:ext cx="8163000" cy="21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6300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6480" y="1649520"/>
            <a:ext cx="801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formatorowego                              i               beztransformator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059240" y="1312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389280" y="1703520"/>
            <a:ext cx="132120" cy="1914480"/>
            <a:chOff x="6389280" y="1703520"/>
            <a:chExt cx="132120" cy="1914480"/>
          </a:xfrm>
        </p:grpSpPr>
        <p:sp>
          <p:nvSpPr>
            <p:cNvPr id="406" name=""/>
            <p:cNvSpPr/>
            <p:nvPr/>
          </p:nvSpPr>
          <p:spPr>
            <a:xfrm>
              <a:off x="6454800" y="1703520"/>
              <a:ext cx="1440" cy="19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389280" y="1703520"/>
              <a:ext cx="132120" cy="133200"/>
              <a:chOff x="6389280" y="1703520"/>
              <a:chExt cx="132120" cy="133200"/>
            </a:xfrm>
          </p:grpSpPr>
          <p:sp>
            <p:nvSpPr>
              <p:cNvPr id="408" name=""/>
              <p:cNvSpPr/>
              <p:nvPr/>
            </p:nvSpPr>
            <p:spPr>
              <a:xfrm>
                <a:off x="6454800" y="1703520"/>
                <a:ext cx="666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389280" y="1703520"/>
                <a:ext cx="6516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8515440" y="2906640"/>
            <a:ext cx="244440" cy="349200"/>
            <a:chOff x="8515440" y="2906640"/>
            <a:chExt cx="244440" cy="349200"/>
          </a:xfrm>
        </p:grpSpPr>
        <p:sp>
          <p:nvSpPr>
            <p:cNvPr id="411" name=""/>
            <p:cNvSpPr/>
            <p:nvPr/>
          </p:nvSpPr>
          <p:spPr>
            <a:xfrm>
              <a:off x="8515440" y="290664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84640" y="2935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8462880" y="3342960"/>
            <a:ext cx="131760" cy="132120"/>
            <a:chOff x="8462880" y="3342960"/>
            <a:chExt cx="131760" cy="132120"/>
          </a:xfrm>
        </p:grpSpPr>
        <p:sp>
          <p:nvSpPr>
            <p:cNvPr id="414" name=""/>
            <p:cNvSpPr/>
            <p:nvPr/>
          </p:nvSpPr>
          <p:spPr>
            <a:xfrm flipH="1" flipV="1">
              <a:off x="8462880" y="334296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462880" y="340848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091120" y="3408480"/>
            <a:ext cx="350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08560" y="339408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56040" y="158904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8120" y="34275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28280" y="33940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12560" y="339876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78440" y="5116680"/>
            <a:ext cx="180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894360" y="5119560"/>
            <a:ext cx="133560" cy="198720"/>
            <a:chOff x="6894360" y="5119560"/>
            <a:chExt cx="133560" cy="198720"/>
          </a:xfrm>
        </p:grpSpPr>
        <p:sp>
          <p:nvSpPr>
            <p:cNvPr id="424" name=""/>
            <p:cNvSpPr/>
            <p:nvPr/>
          </p:nvSpPr>
          <p:spPr>
            <a:xfrm>
              <a:off x="7026120" y="5119560"/>
              <a:ext cx="1800" cy="1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894360" y="5186160"/>
              <a:ext cx="131760" cy="132120"/>
              <a:chOff x="6894360" y="5186160"/>
              <a:chExt cx="131760" cy="1321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6894360" y="5253120"/>
                <a:ext cx="1317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894360" y="5186160"/>
                <a:ext cx="13176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5880240" y="5186160"/>
            <a:ext cx="131760" cy="132120"/>
            <a:chOff x="5880240" y="5186160"/>
            <a:chExt cx="131760" cy="132120"/>
          </a:xfrm>
        </p:grpSpPr>
        <p:sp>
          <p:nvSpPr>
            <p:cNvPr id="429" name=""/>
            <p:cNvSpPr/>
            <p:nvPr/>
          </p:nvSpPr>
          <p:spPr>
            <a:xfrm flipV="1">
              <a:off x="5880240" y="518616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80240" y="525312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269040" y="528480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46520" y="531324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47040" y="525924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41360" y="315900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3160" y="1496880"/>
            <a:ext cx="1800" cy="19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3160" y="340848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38360" y="1496880"/>
            <a:ext cx="131760" cy="131760"/>
            <a:chOff x="738360" y="1496880"/>
            <a:chExt cx="131760" cy="131760"/>
          </a:xfrm>
        </p:grpSpPr>
        <p:sp>
          <p:nvSpPr>
            <p:cNvPr id="438" name=""/>
            <p:cNvSpPr/>
            <p:nvPr/>
          </p:nvSpPr>
          <p:spPr>
            <a:xfrm>
              <a:off x="803160" y="1496880"/>
              <a:ext cx="669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38360" y="1496880"/>
              <a:ext cx="64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3575160" y="3409920"/>
            <a:ext cx="1332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3575160" y="3341160"/>
            <a:ext cx="1332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25640" y="214956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22320" y="271620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4040" y="325116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144440" y="2082960"/>
            <a:ext cx="72720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058760" y="264924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23760" y="318744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08200" y="1956960"/>
            <a:ext cx="263520" cy="145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2440" y="13953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44080" y="325116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1200" y="12924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513240" y="3408480"/>
            <a:ext cx="1440" cy="19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06600" y="3409920"/>
            <a:ext cx="29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46280" y="5191200"/>
            <a:ext cx="132120" cy="131760"/>
            <a:chOff x="3446280" y="5191200"/>
            <a:chExt cx="132120" cy="131760"/>
          </a:xfrm>
        </p:grpSpPr>
        <p:sp>
          <p:nvSpPr>
            <p:cNvPr id="455" name=""/>
            <p:cNvSpPr/>
            <p:nvPr/>
          </p:nvSpPr>
          <p:spPr>
            <a:xfrm flipH="1" flipV="1">
              <a:off x="3446280" y="5191200"/>
              <a:ext cx="666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513240" y="5191200"/>
              <a:ext cx="651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V="1">
            <a:off x="608040" y="334296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040" y="3411360"/>
            <a:ext cx="1317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4360" y="45370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7680" y="39690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27400" y="3433320"/>
            <a:ext cx="266400" cy="1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444760" y="4670280"/>
            <a:ext cx="727200" cy="6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738080" y="4103640"/>
            <a:ext cx="151740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82360" y="3565440"/>
            <a:ext cx="250812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44680" y="340992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13040" y="51069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8000" y="35226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9640" y="1898640"/>
            <a:ext cx="1314360" cy="148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3560" y="21542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4000" y="33908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24160" y="46274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2171880"/>
            <a:ext cx="711540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49720" y="4646520"/>
            <a:ext cx="488628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54800" y="3201840"/>
            <a:ext cx="1440" cy="154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216840" y="2171880"/>
            <a:ext cx="812520" cy="1237680"/>
            <a:chOff x="6216840" y="2171880"/>
            <a:chExt cx="812520" cy="1237680"/>
          </a:xfrm>
        </p:grpSpPr>
        <p:sp>
          <p:nvSpPr>
            <p:cNvPr id="476" name=""/>
            <p:cNvSpPr/>
            <p:nvPr/>
          </p:nvSpPr>
          <p:spPr>
            <a:xfrm>
              <a:off x="6216840" y="2171880"/>
              <a:ext cx="4788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678720" y="2312640"/>
              <a:ext cx="35064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67720" y="3409920"/>
            <a:ext cx="813600" cy="1238040"/>
            <a:chOff x="5067720" y="3409920"/>
            <a:chExt cx="813600" cy="1238040"/>
          </a:xfrm>
        </p:grpSpPr>
        <p:sp>
          <p:nvSpPr>
            <p:cNvPr id="479" name=""/>
            <p:cNvSpPr/>
            <p:nvPr/>
          </p:nvSpPr>
          <p:spPr>
            <a:xfrm>
              <a:off x="5067720" y="4200480"/>
              <a:ext cx="4816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226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22691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53032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364520" y="3409920"/>
            <a:ext cx="813960" cy="1238040"/>
            <a:chOff x="7364520" y="3409920"/>
            <a:chExt cx="813960" cy="1238040"/>
          </a:xfrm>
        </p:grpSpPr>
        <p:sp>
          <p:nvSpPr>
            <p:cNvPr id="482" name=""/>
            <p:cNvSpPr/>
            <p:nvPr/>
          </p:nvSpPr>
          <p:spPr>
            <a:xfrm>
              <a:off x="7364520" y="4200480"/>
              <a:ext cx="48204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82748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81680" y="2171880"/>
            <a:ext cx="812520" cy="1237680"/>
            <a:chOff x="5881680" y="2171880"/>
            <a:chExt cx="812520" cy="1237680"/>
          </a:xfrm>
        </p:grpSpPr>
        <p:sp>
          <p:nvSpPr>
            <p:cNvPr id="485" name=""/>
            <p:cNvSpPr/>
            <p:nvPr/>
          </p:nvSpPr>
          <p:spPr>
            <a:xfrm>
              <a:off x="6215040" y="2171880"/>
              <a:ext cx="479160" cy="44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881680" y="2312640"/>
              <a:ext cx="35100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29360" y="3408480"/>
            <a:ext cx="812520" cy="1239480"/>
            <a:chOff x="7029360" y="3408480"/>
            <a:chExt cx="812520" cy="1239480"/>
          </a:xfrm>
        </p:grpSpPr>
        <p:sp>
          <p:nvSpPr>
            <p:cNvPr id="488" name=""/>
            <p:cNvSpPr/>
            <p:nvPr/>
          </p:nvSpPr>
          <p:spPr>
            <a:xfrm>
              <a:off x="7362720" y="4200120"/>
              <a:ext cx="479160" cy="44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4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4467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29360" y="340848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612200" y="338472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3406680"/>
            <a:ext cx="1800" cy="182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78440" y="3406680"/>
            <a:ext cx="1800" cy="18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78440" y="5251320"/>
            <a:ext cx="1150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56840" y="170352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5160" y="342108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380880" y="1676520"/>
          <a:ext cx="8452080" cy="35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4520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914400" y="1785960"/>
          <a:ext cx="676440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85960"/>
                    <a:ext cx="67644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066680" y="1146240"/>
          <a:ext cx="7542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6240"/>
                    <a:ext cx="7542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507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520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533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537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544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551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554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576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579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582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590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595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598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601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605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620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623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08360" y="211932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25720" y="462600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65520" y="5851440"/>
            <a:ext cx="29347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257800" y="2433600"/>
            <a:ext cx="669960" cy="231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66680" y="2998800"/>
            <a:ext cx="503280" cy="11811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04920" y="1905120"/>
          <a:ext cx="80913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091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087720" y="2346480"/>
            <a:ext cx="1517760" cy="1957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371600"/>
          <a:ext cx="4343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4343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wzmacniaczy scalo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83040" y="4282920"/>
            <a:ext cx="757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708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uszczalne warunki pracy elementów wzmacniając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25560" y="1353960"/>
          <a:ext cx="7005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3960"/>
                    <a:ext cx="7005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10960" y="4073400"/>
            <a:ext cx="172908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zar 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06920" y="1768320"/>
            <a:ext cx="736560" cy="1920960"/>
          </a:xfrm>
          <a:custGeom>
            <a:avLst/>
            <a:gdLst/>
            <a:ahLst/>
            <a:rect l="l" t="t" r="r" b="b"/>
            <a:pathLst>
              <a:path w="572" h="1324">
                <a:moveTo>
                  <a:pt x="109" y="9"/>
                </a:moveTo>
                <a:cubicBezTo>
                  <a:pt x="163" y="0"/>
                  <a:pt x="277" y="30"/>
                  <a:pt x="342" y="76"/>
                </a:cubicBezTo>
                <a:cubicBezTo>
                  <a:pt x="407" y="122"/>
                  <a:pt x="461" y="220"/>
                  <a:pt x="498" y="287"/>
                </a:cubicBezTo>
                <a:cubicBezTo>
                  <a:pt x="535" y="354"/>
                  <a:pt x="572" y="409"/>
                  <a:pt x="565" y="476"/>
                </a:cubicBezTo>
                <a:cubicBezTo>
                  <a:pt x="558" y="543"/>
                  <a:pt x="478" y="592"/>
                  <a:pt x="454" y="687"/>
                </a:cubicBezTo>
                <a:cubicBezTo>
                  <a:pt x="430" y="782"/>
                  <a:pt x="442" y="950"/>
                  <a:pt x="420" y="1043"/>
                </a:cubicBezTo>
                <a:cubicBezTo>
                  <a:pt x="398" y="1136"/>
                  <a:pt x="379" y="1204"/>
                  <a:pt x="320" y="1243"/>
                </a:cubicBezTo>
                <a:cubicBezTo>
                  <a:pt x="261" y="1282"/>
                  <a:pt x="104" y="1324"/>
                  <a:pt x="65" y="1276"/>
                </a:cubicBezTo>
                <a:cubicBezTo>
                  <a:pt x="26" y="1228"/>
                  <a:pt x="70" y="1041"/>
                  <a:pt x="87" y="954"/>
                </a:cubicBezTo>
                <a:cubicBezTo>
                  <a:pt x="104" y="867"/>
                  <a:pt x="167" y="835"/>
                  <a:pt x="165" y="754"/>
                </a:cubicBezTo>
                <a:cubicBezTo>
                  <a:pt x="163" y="673"/>
                  <a:pt x="102" y="543"/>
                  <a:pt x="76" y="465"/>
                </a:cubicBezTo>
                <a:cubicBezTo>
                  <a:pt x="50" y="387"/>
                  <a:pt x="18" y="342"/>
                  <a:pt x="9" y="287"/>
                </a:cubicBezTo>
                <a:cubicBezTo>
                  <a:pt x="0" y="232"/>
                  <a:pt x="5" y="174"/>
                  <a:pt x="20" y="132"/>
                </a:cubicBezTo>
                <a:cubicBezTo>
                  <a:pt x="35" y="90"/>
                  <a:pt x="55" y="18"/>
                  <a:pt x="109" y="9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0" y="1698480"/>
          <a:ext cx="883908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8480"/>
                    <a:ext cx="883908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54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60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70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74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78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87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91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95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8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12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25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28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33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36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59" name=""/>
            <p:cNvSpPr/>
            <p:nvPr/>
          </p:nvSpPr>
          <p:spPr>
            <a:xfrm>
              <a:off x="6339240" y="251784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23880" y="5257800"/>
                <a:ext cx="518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mocy strat tranzystora od tempera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15235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876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1280" y="1108080"/>
            <a:ext cx="103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720" y="43084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133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13372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4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0640" y="4952880"/>
            <a:ext cx="109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=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5520" y="320004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28800" y="32004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680" y="3013200"/>
            <a:ext cx="12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" y="1905120"/>
            <a:ext cx="81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486400" y="1706400"/>
                <a:ext cx="129528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H="1">
            <a:off x="449568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2479680"/>
                <a:ext cx="2514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j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87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94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99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211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3520" y="1143000"/>
          <a:ext cx="8020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20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62120" y="4343400"/>
                <a:ext cx="37335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ystancyjn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905120" y="1295280"/>
          <a:ext cx="5634000" cy="51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6340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1-05T06:28:59Z</dcterms:modified>
  <cp:revision>31</cp:revision>
  <dc:subject/>
  <dc:title>Wzmacniacze mocy</dc:title>
</cp:coreProperties>
</file>